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16.png" ContentType="image/png"/>
  <Override PartName="/ppt/media/image15.wmf" ContentType="image/x-wmf"/>
  <Override PartName="/ppt/media/image1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979-8818-49AC-8230-55C7A60A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F3B-6396-47C6-8045-531CF4ED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074B-BE16-4D7A-A629-7D8BD10B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78D6-BF81-4517-ADC2-70629622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744B-D49E-4FF0-92A8-89344607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37A5-E522-48BF-8B10-0A86AB4A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AD83-6478-4682-B6BC-EFD01071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5A8B-1141-4204-8B91-40C0E68E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3099-1961-467E-84E6-2BAA9A3D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A897-F6AA-4C5E-BC11-811998F5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EFE6-7492-4D83-90D6-F0C3BFF2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8AB-0637-4E0A-96A6-358066E6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67BD-A956-47E0-8642-B993A765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DC77-26F9-4B0B-8784-3B907620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201D-47B0-4133-AA6C-0263FCA1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E0BE-23B2-436E-A526-889B6190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3354-C0FC-4E27-AC4A-DAEB3E53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B33B1-010D-4504-AEBC-1786D34A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7F79D-8D17-4EE2-8B01-10D8A441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1D697-C951-444A-8D7F-84209BDE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9CA24-4C65-45F7-AE98-C69031EF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3873E-7EE0-4B14-870C-70304CCC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0BE0-B3F5-4215-82EF-ABFCB0F9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82F7A1-9D53-4787-84E3-55F88BC1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3763C-4BB9-43CF-9087-EE655DA9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F0543F-E09B-4F03-A091-545008E7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35FE0-5200-46E8-AEF0-42D97A3D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65866-A62D-45D3-B8E2-ED38FD75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70CAF-C54F-498F-AE17-D6CE1EC7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103BF2-9B1B-4FC3-ABE1-B576C675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57040-084D-4053-BC13-10C860A5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F1022-2C03-4AA2-A131-958C31D6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1A716-AD00-4AB5-AA70-D92288C2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4E0-57F9-4CF4-B9DD-7D4F7C54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C0390-3C13-4EAC-9B03-AB9BBE05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44EB0-235F-47CD-92CA-E4851A97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F4465-7C76-41C0-B680-0E491D2F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9DA7D-E2A3-469E-9F0C-6D95B44A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A8BFF-8BBF-4D00-9943-529F8650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97022-E0C2-4A16-8865-27C05242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7CF2A-A86C-4B44-BD73-CBDFD482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72DE3-436B-452D-83E4-A88FAD4B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1662D-5718-440A-A4A9-4DF376ED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27BA3E-BBFC-4ED7-B97B-CBD0A68F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905-1A11-49D6-8684-CB290A19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443312-334A-4767-85FA-9C8F294E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F0BE7-CBD8-4C94-B1D7-8ACB2C56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2869DD-DD3B-46E4-8986-2990DAAB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93B5E-198A-4CCF-89AF-C9493685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064716-CFCB-485A-9D3E-6CC108AB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3F2CFE-F5C9-4439-9913-41F96E7D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B19B41-3D79-4305-8800-C6357553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6DA178-7DE6-4AC7-8D56-E121C7D0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C2491A-4EDD-49EA-B9E0-0C024323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B6E780-08EA-446A-B707-0325256B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404-0BC6-4F15-B549-70706E4D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30F20D-71D3-4D28-B08E-7E55964D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0745F0-48DD-45C3-A5C8-CAB4E73B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BE363A-2CE4-45B1-AEE7-CD93DCE2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8A4C88-B894-41F2-8C4F-9D58D694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E1724A-C827-48C1-A5BF-DA8C50E6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88D99C-7524-41B7-8CDB-94E97C65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BADCCE-FA6E-4B5E-8FF9-3158B93D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596657-8BCC-4CE2-A06F-1637F525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642E27-7604-4854-9E49-CC9009C3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C83C2-22F8-4D37-AB19-52136752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4E78-1DE8-4209-BB5D-D04C1697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46C457-C5DB-4565-8B7C-42A5C9A1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704C7D-CCF2-4EA1-99E6-5AAAFFF0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8FB283-B15A-41AD-AB35-902E4D56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C268C7-CDE9-4691-89F8-9B1CB89A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9DC1E1-EDE6-42C0-B83E-F3EFE2D7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16A313-E522-45D0-995C-034E2C48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044674-FAEF-4090-A469-5F0FA004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94ECD9-C2FD-44E8-A827-EE3F3881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37BED3-0105-4A97-956A-3A55F475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B2AD46-13B3-4D94-9423-87270E96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7EF-4AE6-4C71-BDE7-5342E9C6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595AD8-2F96-4EA8-AA37-CDF02E58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76DFD1-565C-4D33-8463-0725F78B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25A579-86E8-41D9-B008-E13094CA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698AC4-BA58-4348-8FF9-4BF37271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713321-90A0-4B40-A593-0148D132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D8BC-DCC8-493D-ADA3-AA1107AE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9B35-C31E-40F1-B082-6D3411DABC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1ECC-A939-44B7-AA6D-EDB6EF85E3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9796-E1E7-4CE1-8826-C162304742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d2d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2192-D5DB-4A17-A2D5-7EF1C1E2E3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3E59-D822-4784-B2A2-17AA1EDEA6C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72A0-2CEC-44C3-800C-8340454D026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8362-CB40-401A-8053-4DD76F748D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ordle.net/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andyrodgers.edublogs.org/?p=475&amp;preview=true" TargetMode="Externa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6666"/>
                </a:solidFill>
                <a:latin typeface="Century Schoolbook"/>
              </a:rPr>
              <a:t>    </a:t>
            </a:r>
            <a:r>
              <a:rPr b="1" lang="en-US" sz="6000" spc="-1" strike="noStrike">
                <a:solidFill>
                  <a:srgbClr val="666666"/>
                </a:solidFill>
                <a:latin typeface="Century Schoolbook"/>
              </a:rPr>
              <a:t>PLEASE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295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Log onto a computer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Log onto your email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Accept the invitations from Wikispaces from kshoemaker and from wtownschool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f it doesn’t allow you to create a profile, try again with a different username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C:\Program Files\Microsoft Office\MEDIA\CAGCAT10\j0230876.wmf"/>
          <p:cNvPicPr/>
          <p:nvPr/>
        </p:nvPicPr>
        <p:blipFill>
          <a:blip r:embed="rId1"/>
          <a:stretch/>
        </p:blipFill>
        <p:spPr>
          <a:xfrm>
            <a:off x="304920" y="0"/>
            <a:ext cx="1406520" cy="14176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C:\Program Files\Microsoft Office\MEDIA\CAGCAT10\j0230876.wmf"/>
          <p:cNvPicPr/>
          <p:nvPr/>
        </p:nvPicPr>
        <p:blipFill>
          <a:blip r:embed="rId2"/>
          <a:stretch/>
        </p:blipFill>
        <p:spPr>
          <a:xfrm>
            <a:off x="7315200" y="0"/>
            <a:ext cx="14065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-457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0062"/>
                </a:solidFill>
                <a:latin typeface="Century Schoolbook"/>
              </a:rPr>
              <a:t>CHETL-SECTION 4</a:t>
            </a:r>
            <a:endParaRPr b="0" lang="en-US" sz="44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09480" y="12952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already “evaluated” yourself on the characteristics outline in Section 4 of the CHETL document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table, use the index card provided and tally the  number of stars and triangles for each characteristi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4" descr="C:\Users\mmiddleton.WILLIAMSTOWN\AppData\Local\Microsoft\Windows\Temporary Internet Files\Content.IE5\8N4TJ71I\MC900353814[1].wmf"/>
          <p:cNvPicPr/>
          <p:nvPr/>
        </p:nvPicPr>
        <p:blipFill>
          <a:blip r:embed="rId1"/>
          <a:stretch/>
        </p:blipFill>
        <p:spPr>
          <a:xfrm>
            <a:off x="7010280" y="0"/>
            <a:ext cx="1817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2bd8"/>
                </a:solidFill>
                <a:latin typeface="Century Schoolbook"/>
              </a:rPr>
              <a:t>21</a:t>
            </a:r>
            <a:r>
              <a:rPr b="0" lang="en-US" sz="4400" spc="-1" strike="noStrike" baseline="30000">
                <a:solidFill>
                  <a:srgbClr val="ff2bd8"/>
                </a:solidFill>
                <a:latin typeface="Century Schoolbook"/>
              </a:rPr>
              <a:t>ST</a:t>
            </a:r>
            <a:r>
              <a:rPr b="0" lang="en-US" sz="4400" spc="-1" strike="noStrike">
                <a:solidFill>
                  <a:srgbClr val="ff2bd8"/>
                </a:solidFill>
                <a:latin typeface="Century Schoolbook"/>
              </a:rPr>
              <a:t> CENTURY LEARNING</a:t>
            </a:r>
            <a:endParaRPr b="0" lang="en-US" sz="44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049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“homework” you were asked to do a little research on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entury Skills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n a piece of paper, write down 5 or more skills students of the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entury need to hav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og on to </a:t>
            </a: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Schoolbook"/>
                <a:hlinkClick r:id="rId1"/>
              </a:rPr>
              <a:t>www.wordle.ne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ve one person type in all of the words.  It is okay if words are repeated.   Print out your wordl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4" descr="C:\Users\mmiddleton.WILLIAMSTOWN\AppData\Local\Microsoft\Windows\Temporary Internet Files\Content.IE5\52FX9KK3\MC900361858[1].wmf"/>
          <p:cNvPicPr/>
          <p:nvPr/>
        </p:nvPicPr>
        <p:blipFill>
          <a:blip r:embed="rId2"/>
          <a:stretch/>
        </p:blipFill>
        <p:spPr>
          <a:xfrm>
            <a:off x="3886200" y="5257800"/>
            <a:ext cx="16002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5698"/>
                </a:solidFill>
                <a:latin typeface="Century Schoolbook"/>
              </a:rPr>
              <a:t>THE 4 C’S</a:t>
            </a:r>
            <a:endParaRPr b="0" lang="en-US" sz="8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33160" y="1447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59"/>
                </a:solidFill>
                <a:latin typeface="Arial Narrow"/>
              </a:rPr>
              <a:t>Communic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59"/>
                </a:solidFill>
                <a:latin typeface="Arial Narrow"/>
              </a:rPr>
              <a:t>Collabor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59"/>
                </a:solidFill>
                <a:latin typeface="Arial Narrow"/>
              </a:rPr>
              <a:t>Creativity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59"/>
                </a:solidFill>
                <a:latin typeface="Arial Narrow"/>
              </a:rPr>
              <a:t>Critical Thinking and Problem Solving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" descr="C:\Users\mmiddleton.WILLIAMSTOWN\AppData\Local\Microsoft\Windows\Temporary Internet Files\Content.IE5\3VD59Z7L\MC900030696[1].wmf"/>
          <p:cNvPicPr/>
          <p:nvPr/>
        </p:nvPicPr>
        <p:blipFill>
          <a:blip r:embed="rId1"/>
          <a:stretch/>
        </p:blipFill>
        <p:spPr>
          <a:xfrm>
            <a:off x="3352680" y="4800600"/>
            <a:ext cx="20131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40827"/>
                </a:solidFill>
                <a:latin typeface="Century Schoolbook"/>
              </a:rPr>
              <a:t>CHECK THIS OUT!!!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838080" y="19051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7bbfd"/>
                </a:solidFill>
                <a:uFillTx/>
                <a:latin typeface="Arial"/>
                <a:hlinkClick r:id="rId1"/>
              </a:rPr>
              <a:t>http://randyrodgers.edublogs.org/?p=475&amp;preview=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C:\Users\mmiddleton.WILLIAMSTOWN\AppData\Local\Microsoft\Windows\Temporary Internet Files\Content.IE5\6MS1V72I\MC900027276[1].wmf"/>
          <p:cNvPicPr/>
          <p:nvPr/>
        </p:nvPicPr>
        <p:blipFill>
          <a:blip r:embed="rId2"/>
          <a:stretch/>
        </p:blipFill>
        <p:spPr>
          <a:xfrm>
            <a:off x="3505320" y="4648320"/>
            <a:ext cx="205740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8eba"/>
                </a:solidFill>
                <a:latin typeface="Century Schoolbook"/>
              </a:rPr>
              <a:t>WELCOME TO THE WILLIAMSTOWN WIKI</a:t>
            </a:r>
            <a:endParaRPr b="0" lang="en-US" sz="54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90" name="TextBox 2"/>
          <p:cNvSpPr/>
          <p:nvPr/>
        </p:nvSpPr>
        <p:spPr>
          <a:xfrm>
            <a:off x="762120" y="304812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ke some time to check out this sit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3" descr="C:\Users\mmiddleton.WILLIAMSTOWN\AppData\Local\Microsoft\Windows\Temporary Internet Files\Content.IE5\3VD59Z7L\MC900436239[1].png"/>
          <p:cNvPicPr/>
          <p:nvPr/>
        </p:nvPicPr>
        <p:blipFill>
          <a:blip r:embed="rId1"/>
          <a:stretch/>
        </p:blipFill>
        <p:spPr>
          <a:xfrm>
            <a:off x="228600" y="4826160"/>
            <a:ext cx="21844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698"/>
                </a:solidFill>
                <a:latin typeface="Century Schoolbook"/>
              </a:rPr>
              <a:t>NEXT MEETING/</a:t>
            </a:r>
            <a:br>
              <a:rPr sz="4400"/>
            </a:br>
            <a:r>
              <a:rPr b="1" lang="en-US" sz="4400" spc="-1" strike="noStrike">
                <a:solidFill>
                  <a:srgbClr val="ff5698"/>
                </a:solidFill>
                <a:latin typeface="Century Schoolbook"/>
              </a:rPr>
              <a:t>HOMEWORK</a:t>
            </a:r>
            <a:endParaRPr b="0" lang="en-US" sz="44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447560"/>
            <a:ext cx="76960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ch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 Pages 131-148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ategy 5:  Design Lessons to focus on one learning target or aspect of quality at a tim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ategy 6:  Teach students focused revi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TL Section 3  (Star and Triangle Activit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y Something new with Technology.. Be ready to shar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4" name="Picture 4" descr="C:\Users\mmiddleton.WILLIAMSTOWN\AppData\Local\Microsoft\Windows\Temporary Internet Files\Content.IE5\6MS1V72I\MC900104354[1].wmf"/>
          <p:cNvPicPr/>
          <p:nvPr/>
        </p:nvPicPr>
        <p:blipFill>
          <a:blip r:embed="rId1"/>
          <a:stretch/>
        </p:blipFill>
        <p:spPr>
          <a:xfrm>
            <a:off x="3276720" y="4800600"/>
            <a:ext cx="18414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e0eb6"/>
                </a:solidFill>
                <a:latin typeface="Century Schoolbook"/>
              </a:rPr>
              <a:t>EVALUATION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lease fill out the evaluation, place it on the front table,  and have a pleasant evening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Picture 2" descr="C:\Users\mmiddleton.WILLIAMSTOWN\AppData\Local\Microsoft\Windows\Temporary Internet Files\Content.IE5\6MS1V72I\MC900436249[1].png"/>
          <p:cNvPicPr/>
          <p:nvPr/>
        </p:nvPicPr>
        <p:blipFill>
          <a:blip r:embed="rId1"/>
          <a:stretch/>
        </p:blipFill>
        <p:spPr>
          <a:xfrm>
            <a:off x="2057400" y="3200400"/>
            <a:ext cx="4746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88c"/>
                </a:solidFill>
                <a:latin typeface="Century Schoolbook"/>
              </a:rPr>
              <a:t>WELCOME TO THE FUTURE</a:t>
            </a:r>
            <a:br>
              <a:rPr sz="3600"/>
            </a:br>
            <a:r>
              <a:rPr b="1" lang="en-US" sz="3600" spc="-1" strike="noStrike">
                <a:solidFill>
                  <a:srgbClr val="ff388c"/>
                </a:solidFill>
                <a:latin typeface="Century Schoolbook"/>
              </a:rPr>
              <a:t>SB 1 IMPLEMENTATION CONTINUES</a:t>
            </a:r>
            <a:endParaRPr b="0" lang="en-US" sz="36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356" name="Picture 4" descr="C:\Users\mmiddleton.WILLIAMSTOWN\AppData\Local\Microsoft\Windows\Temporary Internet Files\Content.IE5\6MS1V72I\MP900440916[1].jpg"/>
          <p:cNvPicPr/>
          <p:nvPr/>
        </p:nvPicPr>
        <p:blipFill>
          <a:blip r:embed="rId1"/>
          <a:stretch/>
        </p:blipFill>
        <p:spPr>
          <a:xfrm>
            <a:off x="152280" y="0"/>
            <a:ext cx="1422360" cy="1068480"/>
          </a:xfrm>
          <a:prstGeom prst="rect">
            <a:avLst/>
          </a:prstGeom>
          <a:ln w="0">
            <a:noFill/>
          </a:ln>
        </p:spPr>
      </p:pic>
      <p:pic>
        <p:nvPicPr>
          <p:cNvPr id="357" name="Intel commercial.wmv" descr=""/>
          <p:cNvPicPr/>
          <p:nvPr/>
        </p:nvPicPr>
        <p:blipFill>
          <a:blip r:embed="rId2"/>
          <a:stretch/>
        </p:blipFill>
        <p:spPr>
          <a:xfrm>
            <a:off x="1828800" y="177156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Century Schoolbook"/>
              </a:rPr>
              <a:t>    </a:t>
            </a:r>
            <a:r>
              <a:rPr b="1" lang="en-US" sz="3600" spc="-1" strike="noStrike">
                <a:solidFill>
                  <a:srgbClr val="666666"/>
                </a:solidFill>
                <a:latin typeface="Century Schoolbook"/>
              </a:rPr>
              <a:t>REVIEW OF 3 STRATEGIES </a:t>
            </a:r>
            <a:br>
              <a:rPr sz="2400"/>
            </a:br>
            <a:r>
              <a:rPr b="0" lang="en-US" sz="2400" spc="-1" strike="noStrike">
                <a:solidFill>
                  <a:srgbClr val="666666"/>
                </a:solidFill>
                <a:latin typeface="Century Schoolbook"/>
              </a:rPr>
              <a:t>     PROVIDING A CLEAR LEARNING TARGET</a:t>
            </a:r>
            <a:br>
              <a:rPr sz="2400"/>
            </a:br>
            <a:r>
              <a:rPr b="0" lang="en-US" sz="2400" spc="-1" strike="noStrike">
                <a:solidFill>
                  <a:srgbClr val="666666"/>
                </a:solidFill>
                <a:latin typeface="Century Schoolbook"/>
              </a:rPr>
              <a:t>USING EXAMPLES AND MODELS</a:t>
            </a:r>
            <a:br>
              <a:rPr sz="2400"/>
            </a:br>
            <a:r>
              <a:rPr b="0" lang="en-US" sz="2400" spc="-1" strike="noStrike">
                <a:solidFill>
                  <a:srgbClr val="666666"/>
                </a:solidFill>
                <a:latin typeface="Century Schoolbook"/>
              </a:rPr>
              <a:t>  OFFERING DESCRIPTIVE FEEDBACK</a:t>
            </a:r>
            <a:endParaRPr b="0" lang="en-US" sz="24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359" name="Mrs. Stanley2.wmv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STRATEGY 4:  TEACHING STUDENTS TO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SELF- ASSESS AND SET GOALS</a:t>
            </a:r>
            <a:endParaRPr b="0" lang="en-US" sz="32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04920" y="198432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udents cannot self-assess if they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not know the intended learn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ve examples of strong and weak work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ve someone giving them descriptive feedback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ve the training in which to self asses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ctr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GE 96:  First Paragraph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4" descr="C:\Users\mmiddleton.WILLIAMSTOWN\AppData\Local\Microsoft\Windows\Temporary Internet Files\Content.IE5\6MS1V72I\MC900020782[1].wmf"/>
          <p:cNvPicPr/>
          <p:nvPr/>
        </p:nvPicPr>
        <p:blipFill>
          <a:blip r:embed="rId1"/>
          <a:stretch/>
        </p:blipFill>
        <p:spPr>
          <a:xfrm>
            <a:off x="380880" y="5486400"/>
            <a:ext cx="109692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e0eb6"/>
                </a:solidFill>
                <a:latin typeface="Century Schoolbook"/>
              </a:rPr>
              <a:t>3 PARTS TO STRATEGY 4</a:t>
            </a:r>
            <a:endParaRPr b="0" lang="en-US" sz="48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elf-Assessmen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 Students make judgments about what they know, have learned, or have master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Justification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Where students show evidence in their work as rationale for their judgment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Goal-Sett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 Students make a plan for continued learn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 All three do not have to be present at ALL times.. Especially for simpler learning target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4" descr="C:\Users\mmiddleton.WILLIAMSTOWN\AppData\Local\Microsoft\Windows\Temporary Internet Files\Content.IE5\3VD59Z7L\MC900304915[1].wmf"/>
          <p:cNvPicPr/>
          <p:nvPr/>
        </p:nvPicPr>
        <p:blipFill>
          <a:blip r:embed="rId1"/>
          <a:stretch/>
        </p:blipFill>
        <p:spPr>
          <a:xfrm>
            <a:off x="152280" y="380880"/>
            <a:ext cx="12956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4d75"/>
                </a:solidFill>
                <a:latin typeface="Century Schoolbook"/>
              </a:rPr>
              <a:t>CLASSROOM EXAMPLES.. </a:t>
            </a:r>
            <a:br>
              <a:rPr sz="3600"/>
            </a:br>
            <a:r>
              <a:rPr b="1" lang="en-US" sz="3600" spc="-1" strike="noStrike">
                <a:solidFill>
                  <a:srgbClr val="7f4d75"/>
                </a:solidFill>
                <a:latin typeface="Century Schoolbook"/>
              </a:rPr>
              <a:t>MODELS OF GOOD PRACTICE</a:t>
            </a:r>
            <a:endParaRPr b="0" lang="en-US" sz="36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28240" y="1752480"/>
            <a:ext cx="84582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book has lots of examples for helping students with self-assessment and goal setting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ges 100-126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cket of examples I have receive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specific examples/models of classroom use, I turn it over to Mrs. Drysdale, Mrs. Withorn and Mrs. Cummin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4" descr="C:\Users\mmiddleton.WILLIAMSTOWN\AppData\Local\Microsoft\Windows\Temporary Internet Files\Content.IE5\3VD59Z7L\MC900092559[1].wmf"/>
          <p:cNvPicPr/>
          <p:nvPr/>
        </p:nvPicPr>
        <p:blipFill>
          <a:blip r:embed="rId1"/>
          <a:stretch/>
        </p:blipFill>
        <p:spPr>
          <a:xfrm>
            <a:off x="2514600" y="5791320"/>
            <a:ext cx="3860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be0eb6"/>
                </a:solidFill>
                <a:latin typeface="Century Schoolbook"/>
              </a:rPr>
              <a:t>YOU BE GEORGE</a:t>
            </a:r>
            <a:endParaRPr b="0" lang="en-US" sz="2700" spc="-1" strike="noStrike">
              <a:solidFill>
                <a:srgbClr val="666666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80880" y="304920"/>
          <a:ext cx="8001000" cy="624816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  <a:gridCol w="16002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t it Corr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de a Silly Mista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’t Understand the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la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hat’s my ru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Roun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Algeb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Fr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Word 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Expanded 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Intersec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Perpendicu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Obtuse Ang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Acute Ang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Decim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Patter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True Equ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Fr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Pyramid 3-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Tally Ch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Tally Dif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Decimal L-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Decimal G-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Even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50"/>
                </a:solidFill>
                <a:latin typeface="Century Schoolbook"/>
              </a:rPr>
              <a:t>GIVE ONE GET ONE</a:t>
            </a:r>
            <a:endParaRPr b="0" lang="en-US" sz="54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 Narrow"/>
              </a:rPr>
              <a:t>Based on what you read and what you have heard, HOW DO YOU or HOW CAN YOU incorporate Strategy 4 in your classroom?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 Narrow"/>
              </a:rPr>
              <a:t>Take one minute to write down a brief answer(s) to this ques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 Narrow"/>
              </a:rPr>
              <a:t>When I say,  “GO” you are going to mingle with others and Give One of your answers to a person while Getting One from that same pers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4" descr="C:\Users\mmiddleton.WILLIAMSTOWN\AppData\Local\Microsoft\Windows\Temporary Internet Files\Content.IE5\52FX9KK3\MC900355063[1].wmf"/>
          <p:cNvPicPr/>
          <p:nvPr/>
        </p:nvPicPr>
        <p:blipFill>
          <a:blip r:embed="rId1"/>
          <a:stretch/>
        </p:blipFill>
        <p:spPr>
          <a:xfrm>
            <a:off x="2514600" y="5867280"/>
            <a:ext cx="363204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Century Schoolbook"/>
              </a:rPr>
              <a:t>SELF-ASSESSMENT AT WORK </a:t>
            </a:r>
            <a:endParaRPr b="0" lang="en-US" sz="48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0880" y="9140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ctr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 Narrow"/>
              </a:rPr>
              <a:t>Using the Self-Assessment worksheet, rate yourself on your practice in the classroom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ctr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 Narrow"/>
              </a:rPr>
              <a:t>Set goals for yourself after reflecting on your progres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4" descr="C:\Users\mmiddleton.WILLIAMSTOWN\AppData\Local\Microsoft\Windows\Temporary Internet Files\Content.IE5\8N4TJ71I\MC900020786[1].wmf"/>
          <p:cNvPicPr/>
          <p:nvPr/>
        </p:nvPicPr>
        <p:blipFill>
          <a:blip r:embed="rId1"/>
          <a:stretch/>
        </p:blipFill>
        <p:spPr>
          <a:xfrm>
            <a:off x="380880" y="5029200"/>
            <a:ext cx="156384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3:59:47Z</dcterms:created>
  <dc:creator>mmiddleton</dc:creator>
  <dc:description/>
  <dc:language>en-US</dc:language>
  <cp:lastModifiedBy>mmiddleton</cp:lastModifiedBy>
  <dcterms:modified xsi:type="dcterms:W3CDTF">2011-02-15T13:58:01Z</dcterms:modified>
  <cp:revision>162</cp:revision>
  <dc:subject/>
  <dc:title>Welcome to the Future SB 1 Implementation Continues</dc:title>
</cp:coreProperties>
</file>